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59FE-AA93-45C9-8758-D85811CD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829A-234C-4D6D-BC27-2BB55CDD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6429-8C36-48FD-B947-96F1A676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CA16-F996-46E3-B9F6-715C5726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6DA-6749-4602-A3AC-7CB47737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F5E-DE62-4088-BAE7-AEAB8A94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CCB-3F95-42A2-A429-454424A9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F0E-6555-46B1-AB91-14A59B58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ABDB-8FFF-4718-8F44-9B4CF459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E51-FB37-4579-B2BF-42365D91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4A0-8972-4020-8668-0CEF3FAE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BDEB-AAE7-4138-940B-F9447B97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B63A-4859-4596-A02E-AAD779357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VC-001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MVC-003S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64832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MVC-021S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MVC-022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MVC-023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MVC-025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1676520"/>
            <a:ext cx="60962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VC-026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7652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VC-02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0020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VC-004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MVC-006S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VC-007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4648320" y="24382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MVC-008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4382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VC-009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MVC-01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VC-011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3049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MVC-012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VC-013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MVC-014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VC-015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MVC-016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VC-018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36232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MVC-019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VC-01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MVC-02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4:38:25Z</dcterms:created>
  <dc:creator>BBottom</dc:creator>
  <dc:description/>
  <dc:language>en-US</dc:language>
  <cp:lastModifiedBy>BBottom</cp:lastModifiedBy>
  <cp:lastPrinted>2003-10-15T15:27:21Z</cp:lastPrinted>
  <dcterms:modified xsi:type="dcterms:W3CDTF">2003-10-15T15:39:31Z</dcterms:modified>
  <cp:revision>3</cp:revision>
  <dc:subject/>
  <dc:title>UK StormReady Ceremony October 15, 2003</dc:title>
</cp:coreProperties>
</file>