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C2F-1CCA-49A8-AA23-C68DE462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0FC-405A-43B6-B2B8-A10A017C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765-0A82-4612-8B04-318218E9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9668-1DEC-4E1A-B149-2324F531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38E-93CB-4DA1-85FA-46A7A028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EA8-167C-43F4-84E2-7D32170E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F161-FCC9-490F-9194-210AD03C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2F6F-4DFE-4DDD-9A76-B6D6C054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25B-4F1C-4B86-8FE7-2EEBEBD1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62CD-B454-4DA0-98F7-07235442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C191-71E7-4545-BA3F-465949F3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FC2-93EE-41C9-8749-DC705811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2E7C-E6DD-4E03-A963-3984E0D29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VC-001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MVC-003S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64832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MVC-021S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MVC-022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MVC-023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MVC-025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1676520"/>
            <a:ext cx="60962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VC-026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7652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VC-02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0020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VC-004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MVC-006S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VC-007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4648320" y="24382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MVC-008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4382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VC-009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MVC-01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VC-011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3049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MVC-012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VC-013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MVC-014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VC-015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MVC-016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VC-018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36232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MVC-019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VC-01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MVC-02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4:38:25Z</dcterms:created>
  <dc:creator>BBottom</dc:creator>
  <dc:description/>
  <dc:language>en-US</dc:language>
  <cp:lastModifiedBy>BBottom</cp:lastModifiedBy>
  <cp:lastPrinted>2003-10-15T15:27:21Z</cp:lastPrinted>
  <dcterms:modified xsi:type="dcterms:W3CDTF">2003-10-15T15:39:31Z</dcterms:modified>
  <cp:revision>3</cp:revision>
  <dc:subject/>
  <dc:title>UK StormReady Ceremony October 15, 2003</dc:title>
</cp:coreProperties>
</file>