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F9A9-1764-4FD1-9330-A6105007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8120-54AD-4D6D-AF6C-C290EFEF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B307-BF27-4E8A-8C45-91B4A4F1C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0738-90CA-44AF-9EC2-1FE806E48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FD18-7511-4797-81DD-41FB5BF7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E051-3C70-4F07-90F8-BE6BF9C1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13D8-7E56-4EE7-8996-39C6CB3A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E2A6-D701-4D59-88B2-78F1BDB2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3CDD-9B3E-4ED1-B0AF-81D8745D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B653-2CFA-4597-B5C0-E22BAD4D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9C6D-485E-47C2-94AF-9FF5FDF6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53B3-F1AB-4869-AA48-848B4942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6282-D36D-4F59-BA4E-BFE4ED34B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MVC-001S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228600" y="2362320"/>
            <a:ext cx="4278240" cy="320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" name="MVC-003S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4648320" y="2362320"/>
            <a:ext cx="4278240" cy="320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MVC-021S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" name="MVC-022S" descr=""/>
          <p:cNvPicPr/>
          <p:nvPr/>
        </p:nvPicPr>
        <p:blipFill>
          <a:blip r:embed="rId2">
            <a:lum bright="16000"/>
          </a:blip>
          <a:stretch/>
        </p:blipFill>
        <p:spPr>
          <a:xfrm>
            <a:off x="4648320" y="251460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MVC-023S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228600" y="22096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MVC-025S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523880" y="1676520"/>
            <a:ext cx="609624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MVC-026S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676520" y="1752480"/>
            <a:ext cx="60958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MVC-027S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600200" y="1752480"/>
            <a:ext cx="60958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VC-004S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228600" y="22096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MVC-006S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648320" y="220968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VC-007S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4648320" y="243828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MVC-008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228600" y="24382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MVC-009S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228600" y="22096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" name="MVC-010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648320" y="220968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MVC-011S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304920" y="236232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MVC-012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648320" y="236232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MVC-013S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28600" y="251460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MVC-014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648320" y="251460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MVC-015S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28600" y="22096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1" name="MVC-016S" descr=""/>
          <p:cNvPicPr/>
          <p:nvPr/>
        </p:nvPicPr>
        <p:blipFill>
          <a:blip r:embed="rId2">
            <a:lum bright="16000"/>
          </a:blip>
          <a:stretch/>
        </p:blipFill>
        <p:spPr>
          <a:xfrm>
            <a:off x="4648320" y="220968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MVC-018S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28600" y="236232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" name="MVC-019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648320" y="236232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MVC-017S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4648320" y="251460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" name="MVC-020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228600" y="251460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5T14:38:25Z</dcterms:created>
  <dc:creator>BBottom</dc:creator>
  <dc:description/>
  <dc:language>en-US</dc:language>
  <cp:lastModifiedBy>BBottom</cp:lastModifiedBy>
  <cp:lastPrinted>2003-10-15T15:27:21Z</cp:lastPrinted>
  <dcterms:modified xsi:type="dcterms:W3CDTF">2003-10-15T15:39:31Z</dcterms:modified>
  <cp:revision>3</cp:revision>
  <dc:subject/>
  <dc:title>UK StormReady Ceremony October 15, 2003</dc:title>
</cp:coreProperties>
</file>