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5D0-7D2E-4BCA-8284-EE988A65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FD5-B07C-4A18-94AB-69EE4B49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EFA-2A08-48B3-9849-E36C4F71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2AF-71C4-4BC1-BDCD-2D636896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6F7-9C71-4D0C-90F6-DFCA0DE2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6D5-B36E-4287-9A11-E5A61035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21F7-DA8D-40B7-91D7-EA721BFB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51F-15A0-4CBE-875F-05514D35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BBFB-914A-4DDE-8AFA-80E2CD9D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4F3-8A1A-447E-BA5E-530CA941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01C-3184-43B9-9CD4-FE29B72F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31A-1F58-4D6A-AF5F-54806289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7C28-CB45-4522-8902-AC35A92AA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VC-001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MVC-003S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64832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MVC-021S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MVC-022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VC-023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MVC-025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VC-026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7652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VC-02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0020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VC-004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MVC-006S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VC-007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648320" y="24382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MVC-008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4382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VC-009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MVC-01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VC-011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3049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MVC-012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VC-013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MVC-014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VC-015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MVC-016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VC-018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36232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MVC-019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VC-01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MVC-02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4:38:25Z</dcterms:created>
  <dc:creator>BBottom</dc:creator>
  <dc:description/>
  <dc:language>en-US</dc:language>
  <cp:lastModifiedBy>BBottom</cp:lastModifiedBy>
  <cp:lastPrinted>2003-10-15T15:27:21Z</cp:lastPrinted>
  <dcterms:modified xsi:type="dcterms:W3CDTF">2003-10-15T15:39:31Z</dcterms:modified>
  <cp:revision>3</cp:revision>
  <dc:subject/>
  <dc:title>UK StormReady Ceremony October 15, 2003</dc:title>
</cp:coreProperties>
</file>